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lick.wav" ContentType="audio/x-wav"/>
  <Override PartName="/ppt/media/chimes.wav" ContentType="audio/x-wav"/>
  <Override PartName="/ppt/media/voltage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5AAC-EF86-4082-8267-E2B70778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FBD7-7376-47D2-BEAF-BB8ABE92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8095-607A-4716-A377-96CBD5C3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D6FD-BF85-41E2-9A3E-20AE50BF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9E6-B6C9-4962-B4C5-130B6DC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6ABA-B833-4F50-B519-F31E89C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D3C-7667-4083-928F-6AB879F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BE0C-C281-4DCD-99CA-1BC9BAC1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FACA-A1E4-4DE6-8D44-40483302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581-5689-4894-8071-78A25B7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8C3-A34D-486E-B78B-DDA60B0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E388-90DD-4820-A716-E43CE07C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387F-78CC-417A-8785-F67A31E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0535-AD15-4A9B-B5E0-7DE7F09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E57-313D-4D7B-8B6A-6AE449C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DA1-1A15-4D9A-B522-8C074DA7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A2AE-AE48-4B5B-9AC3-D16F4BCC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37A5-371F-4D63-B5BE-200EA57D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8C3A-7811-4468-8FF0-BC35ADC8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9D1E-AB06-402C-A20E-549B4D3B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C03D-4AF3-4A60-8CE2-EE7A16D8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DA2C-4B37-4D4B-BFFB-887D756B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AC83-71BA-4916-9703-6458502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C071-31FB-4AE5-B953-3BAA871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DE9-8889-4713-A0A5-D20247956D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9761-0803-4ADA-8F99-FB554D01F3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lick.wav" TargetMode="External"/><Relationship Id="rId2" Type="http://schemas.microsoft.com/office/2007/relationships/media" Target="file:///tmp/home/.config/libreoffice/4/user/gallery/click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ТРЕТИЙ ТУР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«ПЯТНАШКИ»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9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7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Дальт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ый открывший и описавший хаотическое движение взвешенных частиц в газе и растворах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016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роу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ый открывший законы электролиза и в честь кого названа единица измерения электроемк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1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Фарад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е, при котором все макропараметры системы остаются неизменными сколь угодно дол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Тепловое равновес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вление, при котором из одних веществ образуются новы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1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Химическое  яв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вление, при котором происходит проникновение молекул одного вещества в друг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01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ЕГО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628640"/>
            <a:ext cx="237672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781360"/>
            <a:ext cx="2376720" cy="5763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3933720"/>
            <a:ext cx="2376720" cy="576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084640"/>
            <a:ext cx="23767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Диффуз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вление, при котором происходит изменение формы или агрегатного состоя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01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Физическое  яв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16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Химическое равновес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 бежит по провода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 бывает тут и т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ет зажег, нагрел утю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 наш лучший друг?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16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лектрический ток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 атом он попал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 считай, почти пропал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с утра и до у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тится вокруг ядра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016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лектро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6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чудо – минер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море - вице – адмир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ый повар - в ресторан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палач на свежей ране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16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3084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981000"/>
          <a:ext cx="8229600" cy="488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pic>
        <p:nvPicPr>
          <p:cNvPr id="1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4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Хлорид натр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каком полушарии Земли находится ее северный магнитный полюс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01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 южном полушар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аквалангист может определить в воде, где верх, а где низ, если он потерял ориентиров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01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росить тяжелый предмет и пронаблюдать за движением воздушных пузырьк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единения с водой образующиеся при кристаллизации растворенного вещества из раств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16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Кристаллогидрат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акция проходящая с выделением теплот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016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зотермическая реакц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нородные системы, состоящие из молекул растворителя, растворенного вещества и продуктов их взаимодейств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16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ыберите номер вопро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lick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аствор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мпература, при которой происходит конденсац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01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Точка рос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ра средней кинетической энерг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50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Температур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бор для измерения влажности воздух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016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сихромет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бор для измерения вязкости жидкост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5016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искозимет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бор для измерения напряж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01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то изобрел термометр, вискозимет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1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"/>
                </p:tgtEl>
              </p:cMediaNode>
            </p:audio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льтмет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бор для измерения давл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5016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аромет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бор для нагревания вещест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501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пиртов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ТВЕТ НЕ ВЕР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  <p:sndAc>
      <p:stSnd>
        <p:snd r:embed="rId2" name="voltag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3867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нимание! Правильный от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drumroll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76360" y="2565360"/>
            <a:ext cx="729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Ответ правиль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plus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822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9640" y="2637000"/>
            <a:ext cx="7559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ыберите номер вопро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lick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821844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ОДВЕДЕНИЕ ИТОГ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2544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омонос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194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 классификации химических элементов и уравнения состояния идеального га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8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нделе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96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72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3400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дал подтверждение второму положению МКТ и является автором закона постоянства отношения мас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01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7:39:23Z</dcterms:created>
  <dc:creator>Roman</dc:creator>
  <dc:description/>
  <dc:language>en-US</dc:language>
  <cp:lastModifiedBy>Olesya</cp:lastModifiedBy>
  <dcterms:modified xsi:type="dcterms:W3CDTF">2007-11-10T06:53:34Z</dcterms:modified>
  <cp:revision>15</cp:revision>
  <dc:subject/>
  <dc:title>ТРЕТИЙ ТУР</dc:title>
</cp:coreProperties>
</file>